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E939E-6F14-44AC-9413-586B34903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DF932-3AFD-4EFC-884D-99974519E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4B435-164C-43A9-BA73-F2E212A00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A0A0D-0DC1-47B1-99C1-47C847D3E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1BDD9-2EB9-4C09-A147-CE6E6029C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37BA0-8CE8-4AB5-A994-F3B9556ED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614D0-443E-45BF-8BAF-20FDDD59A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0461F-7424-44C7-88AB-9A0A6B58E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22C65-2069-469C-8510-B00377297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6E712-E2F8-4122-8658-FF7700932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AD6F8-1827-448B-8E68-8A3850A26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FEA58-2BA2-43FC-BECD-811786073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D9BB5-C9E1-475E-ABDE-079F47A2DD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99cc00"/>
                </a:solidFill>
                <a:latin typeface="Arial"/>
              </a:rPr>
              <a:t>Me llamo ___________ Clase 6nh </a:t>
            </a:r>
            <a:br>
              <a:rPr sz="3800"/>
            </a:br>
            <a:r>
              <a:rPr b="0" lang="en-US" sz="3800" spc="-1" strike="noStrike">
                <a:solidFill>
                  <a:srgbClr val="99cc00"/>
                </a:solidFill>
                <a:latin typeface="Arial"/>
              </a:rPr>
              <a:t>La fecha es el 17 de abril del 20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51920" y="1523520"/>
            <a:ext cx="89917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Arial"/>
              </a:rPr>
              <a:t>Propósito # 52: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Cómo estas ho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Arial"/>
              </a:rPr>
              <a:t>Actividad Inici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EXTBOO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pia y responde </a:t>
            </a:r>
            <a:r>
              <a:rPr b="0" lang="es-ES_tradnl" sz="3200" spc="-1" strike="noStrike" u="sng">
                <a:solidFill>
                  <a:srgbClr val="000000"/>
                </a:solidFill>
                <a:uFillTx/>
                <a:latin typeface="Arial"/>
              </a:rPr>
              <a:t>Historieta 3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p. 45 (1-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Pract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Ser (to be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00cc"/>
                          </a:solidFill>
                          <a:latin typeface="Arial"/>
                        </a:rPr>
                        <a:t>Estar (to be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5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Él ella Ud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8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sotr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sotro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los Ellas Uds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Ejercicio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pia y respond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jercicio 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. 4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BO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a p. 20-2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4"/>
          <p:cNvSpPr/>
          <p:nvPr/>
        </p:nvSpPr>
        <p:spPr>
          <a:xfrm>
            <a:off x="380880" y="32004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area # 5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7T18:22:23Z</dcterms:created>
  <dc:creator>Helen Zumaeta</dc:creator>
  <dc:description/>
  <dc:language>en-US</dc:language>
  <cp:lastModifiedBy>Helen Zumaeta</cp:lastModifiedBy>
  <dcterms:modified xsi:type="dcterms:W3CDTF">2013-04-17T16:43:05Z</dcterms:modified>
  <cp:revision>19</cp:revision>
  <dc:subject/>
  <dc:title>Slide 1</dc:title>
</cp:coreProperties>
</file>